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5FE-FFA3-4C06-B7A7-E3B19ACD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41E-41C0-4356-B82C-1CA3F066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584AE-F4C1-45CD-91CA-8A328476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76819-2A1E-4235-A65F-8973958C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A6A78-3743-447A-9AB8-D9A4F22E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A6C01-245A-4AFC-954B-95A8EAF1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73810-D169-48BE-BE0C-48BE104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EBE3A-B83F-4CAF-8E55-D8E2851E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8139E-BF86-4513-A5C3-67052356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43E74-3B66-493C-8411-DB2A948B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80509-E4A2-4EA0-A8B1-62F1A650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46549-E5D9-4A7B-B498-3491FF18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807-EA22-415D-A148-D96339C9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E3166-0A50-4948-B619-132DFBA3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C52BF-0244-41A0-B301-FAED0B81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84BC3-03D7-40CA-A391-53CC84B3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BC4A4-A70F-4183-B4CB-CD194156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44A46-2F64-4987-8A06-EE0078F8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28104-94B6-43CA-AACA-3091665B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9504D-1802-4447-A7A8-45E6EA64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44472-F301-4D06-8F7D-56CC7FE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7823A-C7FD-42DE-B12B-80C45EDC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13079-40A2-460B-A8BC-E15E52A9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9E1-10E6-4E74-B8D1-2DD5E1EB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2658B-14EF-492F-98E3-7D66C0A2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C17F5-81E0-4410-B496-024B9A58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1EB37-F31B-4CE6-BDA5-9BB1C34E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91E62-B94F-4D78-AA93-E98932DF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12658-99D9-44CC-9111-3416363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93AD1-EF42-48CB-87FC-0417BA30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AFB3A-E510-4434-BD09-78D3E5FB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D0058-7D32-461D-A00D-3A2CD3FD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D9751-D851-4EB5-9709-ACC7DDF1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235F1-90C5-4575-88D2-DF5EDC4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FA99-F61E-4176-8923-01507567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675ED-4482-4BED-A2CE-CC6A3B21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AF08E-7552-4AE3-8364-00DED13C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D6FA4-DA88-40EB-8EEA-85FC91E4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1BA3C-AF92-4A73-8153-58DFECDB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7CDCE-27F4-4878-ACC1-2A3FE918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1AA83-A680-4825-BB9D-EAC2D89C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9D1F9-348B-4DFA-A214-0E0DA1A5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537C8-F5EB-4391-96D8-1461A3E0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D5810-3EBE-411B-A328-BB710527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4C6BD-095E-4082-8FCE-D03AB45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FF95-941D-40BC-B406-CA453913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207CE-6148-4845-8D00-60423E9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F5CC2-D563-4A60-80FB-431AFBA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47858-B391-4083-88CD-D1797F16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EA1DD-7A0A-40CF-9976-499E7117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EBD52-129B-4251-AD4E-C1227448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A4FCA-F130-4D8D-9E89-0E0AC856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DDF11-09A4-4232-8DD3-2AD97445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7D814-D723-42E8-A8B7-84D1C604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52879-726F-4F6A-B5C9-D97DC4DE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6F857-2F7F-4AAA-A2A6-B9914D5B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EFCE-C52B-45E0-82EF-B69511E2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8F6C7-51BB-4A2D-B760-FE90E4D8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758A0-D5C5-43CA-8435-C1C5B4D1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85B00-3FF8-43C8-BBDA-4DC8629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7C7E9-1C35-4150-9369-B32B1F4F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8C0D2-CED1-4C55-BA03-07BD72C1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EC52F-C3A2-40ED-90A5-A7D1BD9E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31E9B-019E-4F53-85B5-2B722F12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B6F45-F46F-4A8E-A09E-F30697B5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63598-DA81-4905-B5B2-C9B90C73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FA2AB-4818-4261-AB72-D1549B18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942A-C1AF-4B6C-AD3E-EC72FE9D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6789D-A074-491D-A316-FDC54EB4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A2916-1207-4010-A6FE-5FA45A8D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D3FA8-E1D1-4E6B-9EEB-CBE441B4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907F0-A304-438B-9682-BD55F83D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BA3A3-10E4-44C7-9BEF-A53D17F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9DE25-E2C3-4BD1-9A90-6BD320B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1611D-84CA-42B4-A664-E4D3CF14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6F24F-34F5-4F98-8EF8-51EE0809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2C6A4-16DD-4C56-BA9E-8FB4050E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43C75-4F7F-4D0A-8756-C4845CD5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A736-16B9-46E5-967B-AB3B406D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4AF47-C075-4F10-9FB3-63CCCD46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F63B1-826C-41C7-947A-C5C99395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4A647-4670-4909-9D72-247F42F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236AA-0FC7-40F8-9327-ACABB844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5A826-C9F9-4D70-BA5F-63A0B939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967ED-0854-488A-A9DF-D6E2414E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44980-512D-4078-9124-78D14AA8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C75464-8D94-45AE-9908-B22F7575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06E36-BC1E-449D-9750-5774CC1B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E872A-048C-4B94-B9F8-4B9667AE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501E-B90F-4BBE-9CC1-8B4DD68E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AD2C6-B0F8-4B03-8B58-A831D13E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322A7-BB21-4900-A63B-ACF0BE0C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A664D-24B6-4824-910D-8C356803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D6A81-FE3D-4A87-8783-B68B3D9B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70032-BF82-4A8F-929C-0118293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E3B17-9C13-4A9E-A34B-25F5E8B7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9FF2A-6004-4F7F-872B-8C3A2A0C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8806E-019D-4437-8B03-96B5A3F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C4F30-E75B-4BB7-94A8-38D4DD5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87878-EE66-483D-BE51-D70DBB7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434E-6171-454F-AFAF-3F2EB4D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8A64A-E679-484B-8F74-D1B007C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A3B1B-2603-4C76-8F71-ABC6B2A2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BA61C-CCA0-48F4-A8E4-B049C6B5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B9AE0-23D2-43B1-9F92-DEEF8B1C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D8572-CED6-402B-89A6-F9D6F5D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EF400-640F-45CE-AD6C-42D94E56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72BD5C-03AD-4A6D-BDEE-9787D1E1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452D7-AE34-43A6-A86A-B67E9DF5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0F72E-1EB4-492D-A217-A39EC5C9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E706F4-4A6A-45C6-BF84-6038320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1DD-B328-4F21-99BA-582F97F7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22C6-DB86-44D9-9F39-B3D3080C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93060-3234-4DE7-BFDA-31F90CF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FBD551-969E-492F-A2F6-898E6A1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78EAD-BD5C-4020-85B2-E3E061FD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7FB96-4B45-4652-817A-BBA75312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5D3EA-2527-4B91-A12B-4257591C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CE161-519D-4B77-8453-221AB7D7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EAAED-8F9B-4D65-84AF-F174BA47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492D3-51BE-43D1-93B9-AE01D80D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D4EF5-7B23-4A9D-BC79-25A4212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06DC3-DCAB-49D9-9103-35428BF9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D680-2A91-42C1-9F96-1D62CCB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8E5FD-373D-4545-87E3-ECC96D73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84189-4EBF-4F48-B6BE-21C04ACB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E5DAFA-DBAA-4C7D-824C-62C6AFF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FE7CBD-7F6D-4C56-B42F-CBE75B94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02ED6-5B17-420D-809E-CD2C1DF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EEE75-5709-42BD-B436-EA2629F3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72AB4-0C78-407E-84BE-40CD61EE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5EEDE-6574-4EA6-87A4-D39E64C0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C6377-21F9-44DE-84A6-BA8958CC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9CC9B-5A93-49C6-8AA8-8D90E462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7E1E-D792-45D2-A7AC-5356D60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319D6-6FEA-4DED-81F7-A5FAB063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69171-281E-429E-A93A-CBD49065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0D4173-D190-47B7-BDC3-77952EE8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37F87-DAE8-4147-9157-3B654B2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5D804-D932-4AE0-A8B7-8E5BA5E4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D77F7-1FD3-45CC-A808-8E2697A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BB08F-C656-4180-99AF-115B7B88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A3CC1-CEB7-49E0-B9A4-F084B757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39BAC-20CB-4D09-BD40-B2728790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11B83-3086-4E90-8F09-34C6E823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53A6-559A-476D-A563-9A25F304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E3EA7-7BDA-4482-81BB-EC985DCB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86AB6-EFF0-4DF3-AC8D-BC118551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24DAA-BB3B-41FC-81C3-6D663898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60845-1841-4D07-AE6E-8AA8FB37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39D58-7763-4D2B-AB88-195F3F6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471B3-DF69-455C-B077-C79F7CF0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369CC-E5C5-4B5B-9F6F-B4768017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31E5F-AFDC-49E2-B7CA-D86FC68B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A676E-D80E-4BB5-85AA-C59CCC88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3067FC-B516-4928-99E2-0F15AACD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3C52-5D9A-4801-92D1-73F3578A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A95E08-8A62-4EF5-A792-BFB18E86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4492E7-448D-4A6F-888B-461F3ECE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0072E-0A2B-40A2-8DEE-5386AE16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B70AF-667B-401F-B68B-FB057FEC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C4DA22-33BD-4010-8BF8-8E33CD56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FE92B7-5A35-4714-A398-59A0BD0E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4B166-B323-4D12-8CA7-42D7B512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79433-4E53-4C4E-9591-0E4B5423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1C18E8-5FFB-45D7-9449-87102BF8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A4A46F-A4D7-4266-856E-975E71E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833B-980D-461C-8F88-F0EA0C99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3DC09C-BBD9-462D-939B-58A06D06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1A6B6D-43A6-4047-8C65-29255D5D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FD4D6-359C-4E13-80AD-16790439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7A31-531B-444C-99DE-F5B85052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C090-6E40-46CC-AD94-18744F0C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45AD-7F99-47BD-9DAE-EE780CC0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BEE7-8D96-4CD7-B2C1-07456B09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5BD-1DC7-4CC5-9335-BD2DF1F5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050C-3417-4758-9F9F-F69142BE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7051-67A9-4466-B9A6-3C3097B0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C615A-4868-4966-8641-C14996AD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1B31-D88A-41A5-AA4B-4C7B86E6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EE20-0967-473A-A9D7-C211C921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128A-040C-4E3F-89B5-A17E4F27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F01B-80DC-44F9-80BE-22EE4FBB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36C8-E5A1-4841-AD6B-00993029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34C36-83F9-41B6-A627-C7B716BA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7126-BB82-4B58-A42C-A38E92A6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04B-56FF-4FFE-9B70-D630CA2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198E6-1120-4EA3-A59A-388824A7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0C0F-4C57-4EEF-B797-8A311A3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F6A88-A729-406A-987A-A2D3975E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9D6CC-6B8D-4DD8-8A2D-661A735D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6DE38-8232-4F5A-AEFE-7EA6597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4E1F-BAD3-4E4C-8DC0-C016D05B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0EF5-ABC7-43C2-8083-2976736A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272F-994D-4A4A-A15D-40AFE704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7CD7-01BD-4141-ADCC-CC6FA78A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84DC6-A706-44F4-B160-2676135C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A06-E84D-4E90-8C31-E9405D19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84E9A-F1DC-4846-AE91-0447E387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4E9C-09A2-4BD3-B591-5E7FA53A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6E13-AB19-43A2-8C66-77A09EB0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B5E4-A388-4BAE-865F-FCE4DF34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53B64-D638-4F29-A06C-9E03A33D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01EA-D3BB-46F5-B81C-431470D7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B0103-964C-46ED-94A0-1CD66DC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B28D2-5C46-44F3-BAD4-1D9B6DA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ABFAB-0F6D-405A-96DB-1DAEE6F4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5D59A-146E-4BC3-A955-0B856493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47B-30CD-4FE8-A0CA-919C778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3006-D6FD-447F-B4A1-655EE5CE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1A68D-D03C-433C-967D-2148CD42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C985-126D-4C39-9EAE-D6183C81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BBB3-D635-472D-ABF4-7A13BD81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06AA4-E558-4C0E-B022-A3AF8102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97D7-B236-4E87-9222-BBD99E8C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9FB3F-9612-4F4F-BCE1-1B325303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B4B5-37B9-4DF5-AFEF-82EE333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20225-2753-4498-9973-F8C8662D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64CDF-99FB-48C5-ADDD-4BC6389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E72-6F91-4ED4-B0B6-718D4302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63D72-9790-4099-930A-6B3D1626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BD697-A291-42B7-A1A0-1579CD48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B4783-DFE0-40E4-90D8-D77CDB15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93BF-1012-49C6-A35B-F93F8019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174F5-D716-46B1-A296-1597805A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B31A-18BC-4DC2-B25D-24D938B3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9DEC4-1FD2-471E-AE67-BE739C5C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3AC10-A165-4EBE-9005-F2C2C384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6876-B756-4A0E-ADB1-014F7DFA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644BD-D5CD-41A5-BAA6-21DB990B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A07-B98A-4919-A662-19052AC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F9445-A4F3-47D9-AB63-44E6B844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686F1-0325-4302-AB2E-E8A62575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C1DAC-BEE3-492D-9E22-FA32A775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F43BF-08BA-4A1B-B28D-8CD5C5F9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68DF1-0469-44B5-BC79-7D85B697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0218F-2FAD-4F66-AD93-E27DAF42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E8A2C-9D3D-48E8-A8CE-9A511857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10024-F591-4C71-80DB-C8936357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4C99-6E68-48A5-909F-40F2D2D7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496C7-2E11-4F2F-BE5D-2885F58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E60-656D-44EC-AE8A-04AB8D4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96233-8A29-46B7-86E9-C5441C0E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8133F-EC0C-41D9-A472-6FB45B8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3B226-ED75-47AE-9CD4-B669D42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98E1D-F918-4F5C-83D8-58994457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4373F-4F6B-4524-85B7-136CB321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150FD-0554-4CBC-8FA1-0546BD56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B7193-78E7-4455-BA5C-E3C3DCF1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BFF73-413E-4515-8DD3-3B763084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B2B77-0C8F-4D07-A811-8BA80BAE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6C4F0-2560-499C-A562-C65CBEDA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694F-02AB-42B3-9C35-085CA59AED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5CE8-A711-4988-8635-BD426257F6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88EB-39A0-46C8-BB3E-BA3080823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28CD-D7A1-444B-B805-DF44C4266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CA29-AB48-436C-BAF0-86D84C0A1D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60F4-6818-4AB7-8067-F9A0BE96C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08C4-2B53-4A56-B153-06E895EBA2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0105-8E99-463C-A063-CE94753426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9F23-5100-44DC-BA53-423D9FF0EE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E532-D6F4-4DCF-B169-35AD11EE7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872F-ACC0-4CD4-A165-6F54462258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CA12-2679-46DA-82A0-37CAF95631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B05A-E56B-41D4-8FC4-CEB647094A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A604-1AEF-4699-A03B-39E817CC9F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6748-0B81-4DB9-AADE-710DFEBC6A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C572-B7D4-41B9-A5A3-47E955CBF3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F265-4395-437C-A649-57F7850A84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0992-0E61-4975-82AA-FBD62C0E2C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0ECF-B2E8-4BA0-9641-EBC939714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E7B-4367-4B29-A31E-D3CE278B23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6311-798D-4F76-BA52-376B32AB4F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3C11-13B2-4105-B3CD-22ADF01DB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1A20-1480-4F24-8049-F5FD8E6B08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9902-7716-4244-9A53-8789FD567E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CDFA-D61F-4260-984D-C70183F803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F654-D07C-43CF-870F-BC48413A7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20A-0814-4BA8-A748-771559597A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4F59-76BB-49CB-AFD0-A5186D5A62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3AB2-3B90-49F9-AA5D-3B2BE9C96C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49A0-9419-41A8-91AB-C9DB89E904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1FDE-C806-4144-8DCB-82B63311FD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AFE6-C1B2-46E8-A81D-EA204DE47D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5AAA-D368-402F-AA66-1E384CA11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5EC8-585C-4A8C-8E48-42D6A09068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F1C6-2347-4283-BEF3-CC52EFD8F3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B268-3E6B-4A5A-98DE-02DED8185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E6F4-1590-4249-A2B9-0301862FDA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0297-6F2B-4C86-927C-384E714D65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136B-4844-4A68-B3B7-603A173D9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20F5-2ED6-42A6-98C9-92022E9497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0000" y="3200400"/>
            <a:ext cx="3924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66680" y="1185840"/>
            <a:ext cx="8810640" cy="4486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211640" y="2790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427640" y="4159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427640" y="4572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27640" y="49705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481640" y="536400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95280" y="743040"/>
            <a:ext cx="8353440" cy="5781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5705640" y="2924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3203640" y="3294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4788000" y="5599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020000" y="618480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1114560" y="2548080"/>
            <a:ext cx="6914880" cy="1761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3122640" y="3429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6084720" y="387972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22:49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